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A81-454D-49C1-B0B3-6D93FED674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DF4C-4DCB-41D3-A88B-71DBA7E3E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EB3-2E80-4930-A51D-C285DB5F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0C45-2BF0-4F57-AF24-0833E134A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A342-BC64-4650-9CC7-2DF1C51561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ABAC-1CD8-4D06-B406-70531475C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4D28-E962-46C2-B7A5-9D206A4A8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A86-85D2-42D8-8A9E-1917911CDC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313D-429A-4A21-84AF-604C9026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2A4F-A0DE-4A11-8280-76593D7E8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4C40-315D-4118-BB53-98D9AE6D9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C1BD-7D87-4D9D-A626-8D9F0D475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E848-DDDD-44FD-8F3F-EC8D08D7D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B65A-F251-4FD3-9DF9-BE64F1201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9AFC-4909-4807-AEC7-3CF29CDE8E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2772-29FC-4E2C-B7C5-7DF3C1DDFD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9228-3B5C-4163-8970-4320A3C3030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3F81-6355-431F-848E-797FA215EF7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4593-1B7A-4D54-8469-08617217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2D87-8E22-47B6-9C15-29508D0A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0D5-23A4-4143-AA63-56D0656D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D115-5F63-482C-9455-548C996F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2053-8043-42AD-9E5B-D489F9A8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91C2-FD64-4971-965A-98869C0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4003-747D-43A5-9725-2AAB88B9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F6E4-EF10-4668-A62C-4095D13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A767-FEBC-436E-9EAE-4B92321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DC76-7C8A-42A5-88FE-61D065E574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4758-F52D-4CA1-9B04-F33E8C7A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210C-6272-42C6-9C88-FBF04393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169E-283E-469C-8F90-E75F8134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B14A-D12F-4B68-B068-06B53C21C0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3C53-E9A3-4DE4-B3BC-920278201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64004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08, Open Geospatial Consortium, Inc.,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E7F-1BF8-4A53-A92A-1A7C5F30BD53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7" name="Picture 10" descr="_x000c_hexagons.png                                                   0005D1B2_x0007_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\\.host\Shared Folders\LinuxDesktop\templates\ppt_image_081104.tif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300996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08, Open Geospatial Consortium, Inc.,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27" name="Picture 10" descr="_x000c_hexagons.png                                                   0005D1B2_x0007_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70" name="Picture 10" descr="_x000c_hexagons.png                                                   0005D1B2_x0007_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8, Open Geospatial Consortium, Inc.,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37A-FE7B-43BA-9C4A-4E3BCF0C76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7"/>
          </p:nvPr>
        </p:nvSpPr>
        <p:spPr>
          <a:xfrm>
            <a:off x="300996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8, Open Geospatial Consortium, Inc.,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00996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08, Open Geospatial Consortium, Inc., All Rights Reserved.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GEOSS Update to EO/NRE DWG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447920" y="4267080"/>
            <a:ext cx="6400800" cy="18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44792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64th OGC Technical Committee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. Louis, MO, US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George Percivall, OGC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ch 25, 2008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3257640" y="323532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-33120" bIns="-33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57640" y="323532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3257640" y="323532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-33120" bIns="-33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0" y="17938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0" y="17938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9" name="Rectangle 40"/>
          <p:cNvSpPr/>
          <p:nvPr/>
        </p:nvSpPr>
        <p:spPr>
          <a:xfrm>
            <a:off x="19080" y="30081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0" name="Rectangle 41"/>
          <p:cNvSpPr/>
          <p:nvPr/>
        </p:nvSpPr>
        <p:spPr>
          <a:xfrm>
            <a:off x="19080" y="30081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3" name="Text Box 50"/>
          <p:cNvSpPr/>
          <p:nvPr/>
        </p:nvSpPr>
        <p:spPr>
          <a:xfrm>
            <a:off x="4077720" y="97632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ponsor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6" name="Rectangle 5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7" name="Rectangle 58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8" name="Rectangle 63"/>
          <p:cNvSpPr/>
          <p:nvPr/>
        </p:nvSpPr>
        <p:spPr>
          <a:xfrm>
            <a:off x="0" y="407844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9" name="Rectangle 6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20" name="Rectangle 67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321" name="Picture 69" descr="Northrop Grumman Information Technology-TASC"/>
          <p:cNvPicPr/>
          <p:nvPr/>
        </p:nvPicPr>
        <p:blipFill>
          <a:blip r:embed="rId1"/>
          <a:stretch/>
        </p:blipFill>
        <p:spPr>
          <a:xfrm>
            <a:off x="3276720" y="1447920"/>
            <a:ext cx="25146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2971800" y="640080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© 2008 Open Geospatial Consortium, Inc.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7788-F485-495A-B730-C60ED2673179}" type="slidenum">
              <a:rPr b="1" lang="en-US" sz="1000" spc="-1" strike="noStrike">
                <a:solidFill>
                  <a:srgbClr val="000000"/>
                </a:solidFill>
                <a:latin typeface="CG Times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s with OGC and OGCii suppor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Workshop series led by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 Committee on Earth Observa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coming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Air Quality and health” at ISPRS Congress, July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Air Quality and coastal ecosystems” at IGARSS’08 July in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X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of GEOSS at OGC; December 2008 in Val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 Black"/>
              </a:rPr>
              <a:t>GEO Architecture and Data Committee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5faa"/>
                </a:solidFill>
                <a:latin typeface="Arial Black"/>
              </a:rPr>
              <a:t>Task AR-07-02 </a:t>
            </a:r>
            <a:br>
              <a:rPr sz="2800"/>
            </a:br>
            <a:r>
              <a:rPr b="1" lang="en-GB" sz="3200" spc="-1" strike="noStrike">
                <a:solidFill>
                  <a:srgbClr val="005faa"/>
                </a:solidFill>
                <a:latin typeface="Arial Black"/>
              </a:rPr>
              <a:t>Ar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92e5c"/>
                </a:solidFill>
                <a:latin typeface="Arial"/>
              </a:rPr>
              <a:t>OGC Pilot in support of GE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92e5c"/>
                </a:solidFill>
                <a:latin typeface="Arial"/>
              </a:rPr>
              <a:t>OGC Interoperabilit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Status - 2007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912680"/>
            <a:ext cx="77724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, deployed, tested and demons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detailed architectu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4 Components &amp; 75 Services registered (Nov 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ions for SBAs captured &amp; po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s (3), Community Portals (27) and Application Clients (13), Clearinghouses (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Architecture Implementation Repor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, results,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didate Interoperability Arrangements to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and components for registration;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658800" y="1432080"/>
            <a:ext cx="7736040" cy="133668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658800" y="5302080"/>
            <a:ext cx="7736040" cy="140040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650880" y="2917800"/>
            <a:ext cx="7736040" cy="224172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1108080" y="1778040"/>
            <a:ext cx="1220760" cy="590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 Web 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ite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059240" y="13842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G Times"/>
              </a:rPr>
              <a:t>Client Tier</a:t>
            </a:r>
            <a:endParaRPr b="1" lang="en-US" sz="1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824080" y="293040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G Times"/>
              </a:rPr>
              <a:t>Business Process Tier</a:t>
            </a:r>
            <a:endParaRPr b="1" lang="en-US" sz="1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6971760" y="53020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G Times"/>
              </a:rPr>
              <a:t>Access Tier</a:t>
            </a:r>
            <a:endParaRPr b="1" lang="en-US" sz="1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2687760" y="1673280"/>
            <a:ext cx="122076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Web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Portal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758880" y="3092400"/>
            <a:ext cx="1569960" cy="198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100520" y="3092400"/>
            <a:ext cx="80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GEOS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Registrie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920880" y="39607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920880" y="363204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Component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920880" y="42973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Standard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922320" y="5730840"/>
            <a:ext cx="1544760" cy="590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NETCast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6880320" y="5783400"/>
            <a:ext cx="1139760" cy="617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Other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2801880" y="568476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cce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3" name="AutoShape 18"/>
          <p:cNvSpPr/>
          <p:nvPr/>
        </p:nvSpPr>
        <p:spPr>
          <a:xfrm>
            <a:off x="5565600" y="5689440"/>
            <a:ext cx="10382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Model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cce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344" name="Group 19"/>
          <p:cNvGrpSpPr/>
          <p:nvPr/>
        </p:nvGrpSpPr>
        <p:grpSpPr>
          <a:xfrm>
            <a:off x="4194000" y="1697040"/>
            <a:ext cx="1409760" cy="733320"/>
            <a:chOff x="4194000" y="1697040"/>
            <a:chExt cx="1409760" cy="733320"/>
          </a:xfrm>
        </p:grpSpPr>
        <p:sp>
          <p:nvSpPr>
            <p:cNvPr id="345" name="AutoShape 20"/>
            <p:cNvSpPr/>
            <p:nvPr/>
          </p:nvSpPr>
          <p:spPr>
            <a:xfrm>
              <a:off x="4383000" y="16970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46" name="AutoShape 21"/>
            <p:cNvSpPr/>
            <p:nvPr/>
          </p:nvSpPr>
          <p:spPr>
            <a:xfrm>
              <a:off x="4295520" y="17668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47" name="AutoShape 22"/>
            <p:cNvSpPr/>
            <p:nvPr/>
          </p:nvSpPr>
          <p:spPr>
            <a:xfrm>
              <a:off x="4194000" y="18399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ommunity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Portals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sp>
        <p:nvSpPr>
          <p:cNvPr id="348" name="AutoShape 23"/>
          <p:cNvSpPr/>
          <p:nvPr/>
        </p:nvSpPr>
        <p:spPr>
          <a:xfrm>
            <a:off x="6095880" y="170640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9" name="AutoShape 24"/>
          <p:cNvSpPr/>
          <p:nvPr/>
        </p:nvSpPr>
        <p:spPr>
          <a:xfrm>
            <a:off x="6018120" y="179388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50" name="AutoShape 25"/>
          <p:cNvSpPr/>
          <p:nvPr/>
        </p:nvSpPr>
        <p:spPr>
          <a:xfrm>
            <a:off x="5938920" y="1881360"/>
            <a:ext cx="186840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Clien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pplication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919080" y="4624560"/>
            <a:ext cx="1220760" cy="331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G Times"/>
              </a:rPr>
              <a:t>Requirement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352" name="Group 27"/>
          <p:cNvGrpSpPr/>
          <p:nvPr/>
        </p:nvGrpSpPr>
        <p:grpSpPr>
          <a:xfrm>
            <a:off x="2984400" y="4278240"/>
            <a:ext cx="1409760" cy="733320"/>
            <a:chOff x="2984400" y="4278240"/>
            <a:chExt cx="1409760" cy="733320"/>
          </a:xfrm>
        </p:grpSpPr>
        <p:sp>
          <p:nvSpPr>
            <p:cNvPr id="353" name="AutoShape 28"/>
            <p:cNvSpPr/>
            <p:nvPr/>
          </p:nvSpPr>
          <p:spPr>
            <a:xfrm>
              <a:off x="3173400" y="42782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4" name="AutoShape 29"/>
            <p:cNvSpPr/>
            <p:nvPr/>
          </p:nvSpPr>
          <p:spPr>
            <a:xfrm>
              <a:off x="3085920" y="4348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5" name="AutoShape 30"/>
            <p:cNvSpPr/>
            <p:nvPr/>
          </p:nvSpPr>
          <p:spPr>
            <a:xfrm>
              <a:off x="2984400" y="44211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ommunity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atalogues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56" name="Group 31"/>
          <p:cNvGrpSpPr/>
          <p:nvPr/>
        </p:nvGrpSpPr>
        <p:grpSpPr>
          <a:xfrm>
            <a:off x="5126040" y="3376440"/>
            <a:ext cx="1409760" cy="733320"/>
            <a:chOff x="5126040" y="3376440"/>
            <a:chExt cx="1409760" cy="733320"/>
          </a:xfrm>
        </p:grpSpPr>
        <p:sp>
          <p:nvSpPr>
            <p:cNvPr id="357" name="AutoShape 32"/>
            <p:cNvSpPr/>
            <p:nvPr/>
          </p:nvSpPr>
          <p:spPr>
            <a:xfrm>
              <a:off x="5315040" y="33764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8" name="AutoShape 33"/>
            <p:cNvSpPr/>
            <p:nvPr/>
          </p:nvSpPr>
          <p:spPr>
            <a:xfrm>
              <a:off x="5227560" y="34462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9" name="AutoShape 34"/>
            <p:cNvSpPr/>
            <p:nvPr/>
          </p:nvSpPr>
          <p:spPr>
            <a:xfrm>
              <a:off x="5126040" y="35193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Portrayal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Services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60" name="Group 35"/>
          <p:cNvGrpSpPr/>
          <p:nvPr/>
        </p:nvGrpSpPr>
        <p:grpSpPr>
          <a:xfrm>
            <a:off x="6715080" y="3394080"/>
            <a:ext cx="1409760" cy="733320"/>
            <a:chOff x="6715080" y="3394080"/>
            <a:chExt cx="1409760" cy="733320"/>
          </a:xfrm>
        </p:grpSpPr>
        <p:sp>
          <p:nvSpPr>
            <p:cNvPr id="361" name="AutoShape 36"/>
            <p:cNvSpPr/>
            <p:nvPr/>
          </p:nvSpPr>
          <p:spPr>
            <a:xfrm>
              <a:off x="6904080" y="3394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2" name="AutoShape 37"/>
            <p:cNvSpPr/>
            <p:nvPr/>
          </p:nvSpPr>
          <p:spPr>
            <a:xfrm>
              <a:off x="6816600" y="34639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3" name="AutoShape 38"/>
            <p:cNvSpPr/>
            <p:nvPr/>
          </p:nvSpPr>
          <p:spPr>
            <a:xfrm>
              <a:off x="6715080" y="35370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Workflow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Management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64" name="Group 39"/>
          <p:cNvGrpSpPr/>
          <p:nvPr/>
        </p:nvGrpSpPr>
        <p:grpSpPr>
          <a:xfrm>
            <a:off x="5108400" y="4281480"/>
            <a:ext cx="1409760" cy="733320"/>
            <a:chOff x="5108400" y="4281480"/>
            <a:chExt cx="1409760" cy="733320"/>
          </a:xfrm>
        </p:grpSpPr>
        <p:sp>
          <p:nvSpPr>
            <p:cNvPr id="365" name="AutoShape 40"/>
            <p:cNvSpPr/>
            <p:nvPr/>
          </p:nvSpPr>
          <p:spPr>
            <a:xfrm>
              <a:off x="52974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6" name="AutoShape 41"/>
            <p:cNvSpPr/>
            <p:nvPr/>
          </p:nvSpPr>
          <p:spPr>
            <a:xfrm>
              <a:off x="52099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7" name="AutoShape 42"/>
            <p:cNvSpPr/>
            <p:nvPr/>
          </p:nvSpPr>
          <p:spPr>
            <a:xfrm>
              <a:off x="51084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Processing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Services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68" name="Group 43"/>
          <p:cNvGrpSpPr/>
          <p:nvPr/>
        </p:nvGrpSpPr>
        <p:grpSpPr>
          <a:xfrm>
            <a:off x="6723000" y="4281480"/>
            <a:ext cx="1409760" cy="733320"/>
            <a:chOff x="6723000" y="4281480"/>
            <a:chExt cx="1409760" cy="733320"/>
          </a:xfrm>
        </p:grpSpPr>
        <p:sp>
          <p:nvSpPr>
            <p:cNvPr id="369" name="AutoShape 44"/>
            <p:cNvSpPr/>
            <p:nvPr/>
          </p:nvSpPr>
          <p:spPr>
            <a:xfrm>
              <a:off x="69120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70" name="AutoShape 45"/>
            <p:cNvSpPr/>
            <p:nvPr/>
          </p:nvSpPr>
          <p:spPr>
            <a:xfrm>
              <a:off x="68245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71" name="AutoShape 46"/>
            <p:cNvSpPr/>
            <p:nvPr/>
          </p:nvSpPr>
          <p:spPr>
            <a:xfrm>
              <a:off x="67230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Other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Services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sp>
        <p:nvSpPr>
          <p:cNvPr id="372" name="AutoShape 47"/>
          <p:cNvSpPr/>
          <p:nvPr/>
        </p:nvSpPr>
        <p:spPr>
          <a:xfrm>
            <a:off x="2992320" y="3220920"/>
            <a:ext cx="140508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Clearinghouse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73" name="AutoShape 58"/>
          <p:cNvSpPr/>
          <p:nvPr/>
        </p:nvSpPr>
        <p:spPr>
          <a:xfrm>
            <a:off x="4194000" y="568800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nsor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cce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74" name="Rectangle 59"/>
          <p:cNvSpPr/>
          <p:nvPr/>
        </p:nvSpPr>
        <p:spPr>
          <a:xfrm>
            <a:off x="831960" y="80640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CG Times"/>
              </a:rPr>
              <a:t>Engineering Viewpoint Architecture</a:t>
            </a:r>
            <a:endParaRPr b="1" lang="en-US" sz="28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I Pilot Screencas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376" name="Picture 3" descr="GEOvideoTitle"/>
          <p:cNvPicPr/>
          <p:nvPr/>
        </p:nvPicPr>
        <p:blipFill>
          <a:blip r:embed="rId1"/>
          <a:srcRect l="0" t="0" r="5036" b="0"/>
          <a:stretch/>
        </p:blipFill>
        <p:spPr>
          <a:xfrm>
            <a:off x="244440" y="0"/>
            <a:ext cx="8558280" cy="6838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1906560" y="4816440"/>
            <a:ext cx="67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www.ogcnetwork.net/AIPdemos</a:t>
            </a:r>
            <a:endParaRPr b="1" lang="en-US" sz="3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Web Portal - 2007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22440" y="176508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organizations are capable of providing workable 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sult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ttp://www.geowebportal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SA-FAO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ttp://www.geoporta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RI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ttp://keel.esri.com/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ooter Placeholder 2"/>
          <p:cNvSpPr/>
          <p:nvPr/>
        </p:nvSpPr>
        <p:spPr>
          <a:xfrm>
            <a:off x="2971800" y="640080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© 2008 Open Geospatial Consortium, Inc.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106E-884E-484E-8789-31B50E8DEC6A}" type="slidenum">
              <a:rPr b="1" lang="en-US" sz="1000" spc="-1" strike="noStrike">
                <a:solidFill>
                  <a:srgbClr val="000000"/>
                </a:solidFill>
                <a:latin typeface="CG Times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mmon Infrastructure - Draf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09480" y="990720"/>
          <a:ext cx="7391520" cy="52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39152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Infrastructure Establish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sustain operations of GEOSS Common Infrastructure and it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presented to GEO ExCom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 Pilot dependent up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schedule for AI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Release: end of April, beginning of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due: end of May, beginning of J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off meeting: July at IGARSS’08 -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emphasis on "persistent exemplar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of services based on operational services linked together using the GEOSS ADC Architecture develop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s for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- 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/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3:30:23Z</dcterms:created>
  <dc:creator>Greg Buehler</dc:creator>
  <dc:description/>
  <dc:language>en-US</dc:language>
  <cp:lastModifiedBy>sf</cp:lastModifiedBy>
  <dcterms:modified xsi:type="dcterms:W3CDTF">2008-03-30T11:56:25Z</dcterms:modified>
  <cp:revision>38</cp:revision>
  <dc:subject/>
  <dc:title>[Working Group Title]</dc:title>
</cp:coreProperties>
</file>